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1CD-02D7-4D43-A491-D1158DDA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580-8930-4250-A465-D93D2498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7E8-3CA3-4349-8D29-9A7B0535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74B-1AD0-4333-A0D5-570A625D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B28-83AC-4366-9B08-6D75C9B5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BEE-A4D0-42CB-8F0D-03831F4E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2CF-1290-4779-B474-AF6A9DC0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2EC-406C-4ECA-A9C3-35783BF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213-BBC1-4C23-AE90-3CB1A287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EAA-DC13-45C3-A9A0-F10F703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781-5702-4B66-ADE1-2AB4FE2B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263-7FD4-4DF5-B348-1D73D388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6876-E885-4159-AD42-3CFC7E53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13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slide" Target="slide11.xml"/><Relationship Id="rId13" Type="http://schemas.openxmlformats.org/officeDocument/2006/relationships/slide" Target="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5.xml"/><Relationship Id="rId20" Type="http://schemas.openxmlformats.org/officeDocument/2006/relationships/slide" Target=""/><Relationship Id="rId21" Type="http://schemas.openxmlformats.org/officeDocument/2006/relationships/slide" Target="slide10.xml"/><Relationship Id="rId22" Type="http://schemas.openxmlformats.org/officeDocument/2006/relationships/slide" Target=""/><Relationship Id="rId23" Type="http://schemas.openxmlformats.org/officeDocument/2006/relationships/slide" Target="slide15.xml"/><Relationship Id="rId24" Type="http://schemas.openxmlformats.org/officeDocument/2006/relationships/slide" Target=""/><Relationship Id="rId25" Type="http://schemas.openxmlformats.org/officeDocument/2006/relationships/slide" Target="slide14.xml"/><Relationship Id="rId26" Type="http://schemas.openxmlformats.org/officeDocument/2006/relationships/slide" Target=""/><Relationship Id="rId27" Type="http://schemas.openxmlformats.org/officeDocument/2006/relationships/slide" Target="slide16.xml"/><Relationship Id="rId28" Type="http://schemas.openxmlformats.org/officeDocument/2006/relationships/slide" Target=""/><Relationship Id="rId29" Type="http://schemas.openxmlformats.org/officeDocument/2006/relationships/slide" Target="slide4.xml"/><Relationship Id="rId30" Type="http://schemas.openxmlformats.org/officeDocument/2006/relationships/slide" Target="slide6.xml"/><Relationship Id="rId31" Type="http://schemas.openxmlformats.org/officeDocument/2006/relationships/slide" Target="slide18.xml"/><Relationship Id="rId32" Type="http://schemas.openxmlformats.org/officeDocument/2006/relationships/slide" Target=""/><Relationship Id="rId33" Type="http://schemas.openxmlformats.org/officeDocument/2006/relationships/slide" Target="slide7.xml"/><Relationship Id="rId34" Type="http://schemas.openxmlformats.org/officeDocument/2006/relationships/slide" Target=""/><Relationship Id="rId35" Type="http://schemas.openxmlformats.org/officeDocument/2006/relationships/slide" Target="slide12.xml"/><Relationship Id="rId36" Type="http://schemas.openxmlformats.org/officeDocument/2006/relationships/slide" Target=""/><Relationship Id="rId37" Type="http://schemas.openxmlformats.org/officeDocument/2006/relationships/slide" Target="slide17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ton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8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eet is a type of precipitation falls from the sk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rozen form but melts upon hitting the surfac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“frozen raindrop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l is produced becaus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nse thunderstor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28600"/>
            <a:ext cx="716292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ype of precipitation is often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intense thundersto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uper cool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8000" y="19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5480" y="2711520"/>
            <a:ext cx="677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precipitation exists in liquid form bu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below freezing. It will freeze on 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lizzard is a storm associ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low temperatures, strong wind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vy blowing snow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 blizz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orm associat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rain along with light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u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a thunderst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rnado. This storm is associated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ating column that causes much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hit th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52280"/>
            <a:ext cx="708660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orm commonly seen in the Midwestern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ones are large revolving  tropical st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d by winds blow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ound a central area of low atmospheric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cycl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onsoon is a wind current in southern Asia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heavy rains and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8600"/>
            <a:ext cx="71629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monso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hermometer measur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ypically contains alcohol or mercury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716292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thermom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n gauge measures the amou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n that has fallen over a peri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80880"/>
            <a:ext cx="7086600" cy="520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a rain gau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13372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0"/>
            <a:ext cx="190512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0"/>
            <a:ext cx="20574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0"/>
            <a:ext cx="2362320" cy="10782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ather balloon is 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weather conditions hig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in the atmosphere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weather ball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rometer measures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. It tells whether the pressu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ing or rising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2860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 baro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anemometer meas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sp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0"/>
            <a:ext cx="6477120" cy="1323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an ane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rus clouds are thin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igh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irrus clou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914400"/>
            <a:ext cx="7543800" cy="4038480"/>
          </a:xfrm>
          <a:prstGeom prst="wedgeRectCallout">
            <a:avLst>
              <a:gd name="adj1" fmla="val -17634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mulus clouds are referred to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ir weather clouds” they 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ot like cotton ball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a cloud associated with fair wea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stratus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6680" y="2133720"/>
            <a:ext cx="637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clouds are low form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re referred to as “b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ather cloud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228600"/>
            <a:ext cx="723888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clouds made of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uds are made of a mill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oplets of water and 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0833"/>
              <a:gd name="adj2" fmla="val 17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clouds form high in the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look a lot like fl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uc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28600"/>
            <a:ext cx="7162920" cy="581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lenticular clou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560" y="220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is a type of precip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falls from the earth in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quid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8600"/>
            <a:ext cx="716256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28600"/>
            <a:ext cx="723888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96080" y="2384280"/>
            <a:ext cx="599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ow is a type of precipitation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s from the earth in a soli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4:17Z</dcterms:created>
  <dc:creator>Jerry Myers</dc:creator>
  <dc:description>Created by Jerry Myers is 1998 for a class.</dc:description>
  <dc:language>en-US</dc:language>
  <cp:lastModifiedBy> </cp:lastModifiedBy>
  <dcterms:modified xsi:type="dcterms:W3CDTF">2009-03-17T22:25:03Z</dcterms:modified>
  <cp:revision>72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